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277-6DC1-4EA8-9525-078A81F4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1B7-E57A-4617-82A2-925466E2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51C-FAE0-4E1A-BAC2-AD220AAF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E76-017A-424A-B1C4-C2D49481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DC7-83A4-4FA2-AA77-75E018D0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43A-4BBA-404A-92EE-208F73E2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DB6-E54D-4AA8-B602-9E22F78B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083-ACED-478D-9FCB-04D88112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032-BAD5-48EE-8F15-31FE8735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1E1-090C-4A9F-B93C-BA650260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1ED-8E8C-4E39-939E-BF1F6988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E11-2C85-43BF-A66A-17918026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10F3-15B9-499A-BD8C-DC3FF887F15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01217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學習網站作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作業：學習網站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選擇一組網站做功能與特色比較，但每組不能超過兩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台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港都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等公務員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國家文官培訓所文官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文建會網路學院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職業訓練數位學習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主計處公務員資訊學習網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小企業網路大學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k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數位學堂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華電信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報告格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針對每個網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主要功能和服務對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網站經營模式、活動與創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你最欣賞的特色功能或課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最適合你的學習資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以加強之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兩個網站的比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那個對你比較有幫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1:49:12Z</dcterms:created>
  <dc:creator>Jeanchow</dc:creator>
  <dc:description/>
  <dc:language>en-US</dc:language>
  <cp:lastModifiedBy>Jeanchow</cp:lastModifiedBy>
  <dcterms:modified xsi:type="dcterms:W3CDTF">2010-12-17T11:49:27Z</dcterms:modified>
  <cp:revision>1</cp:revision>
  <dc:subject/>
  <dc:title>101217 學習網站作業</dc:title>
</cp:coreProperties>
</file>